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2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1567-10C1-43E7-8C6D-C0F799924948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8EA72-E5A8-4E67-9FA9-5E9818C872A1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002D-6ABC-4F34-A17C-BF5FA65B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4139-91C9-4F8D-B896-B3327BB2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A08E-44A3-4A21-A430-71760CC69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6624-A0C7-4744-B859-7559AA589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0369-56F9-4343-8FC5-90C6277D7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3E9A-FA97-4E50-8A13-9D452C57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0EBD4-E38C-4AF3-BA13-07D064A8F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292F-7DE7-4A19-8DEA-E83FBCB7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2232-8E78-4602-AA89-CBF7683EB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2C96-7A06-47C6-9DB0-C3925503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685B-06B1-4807-8BB2-AAB43DFF3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D60E-F7FC-4ED6-9EF1-7FED0A06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236-84BF-4D02-ADB7-5494D5C9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CF893-4695-4E19-8E34-1B7BDDAB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C3923-BCA4-42C0-861C-E0DE14A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4693-A2E9-46E9-B802-62A974E32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553D-9541-41A7-8F1E-888ABD06F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7D990-377F-4C51-A9A4-D1BB15214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21B06-35A2-4382-83D8-660F1D9E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F7334-3E78-4C13-95A9-3089A3A5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35E46-E679-493D-AFE8-1A835857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6B095-7E21-4533-96AC-0DEBED9CE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14AF-5F45-434E-9B34-FE98D0649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E1A74-0CC9-4460-B35B-5ED7712C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FD91-A56B-457A-8AE3-1FE8AA93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49B9B-609C-4637-AD8A-87BB8209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13631-C70A-4CBB-A7AE-7733F56C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711C-1A0B-4ACE-A603-B15A8665F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8D7D-2048-490D-BA43-914B40854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B0F4-CA28-4C30-B686-5D66D7D7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D5B80-6C32-4D32-B056-12D55D357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0D817-AACD-4E85-929C-33E1B519F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533B7-1916-4E8F-9898-8C038ED4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7C4-57B7-414E-B6CB-1BAC2FAA2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215953-FE8B-4B65-9703-47D14E6C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29AC2-AB18-4AE7-9CC3-3D7238D3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749E7-D266-46F3-B686-0511EA7DE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14AD7-928E-449C-8DA4-29416C086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29FEF-F83C-4036-8CA9-354E3764A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45428-02AA-4FA9-B2B3-76C55D0B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E355D-E346-47B1-881D-C82E7ED53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03C57-B79F-4D14-95BA-BA06D84E5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E1D173-2D76-40BE-B74B-3D5B38C26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29859E-50A6-44C7-B02F-AEC971ED2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88D2-7289-421D-B4F4-F34D64EB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F3A10-72C2-4783-A4EB-F44C6259E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290C43-FD0B-4571-83EC-62EA1CF1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6B9C9-FC24-42BC-9D68-391621628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F4C35-1D4C-4900-AACC-C058D467E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00486-45ED-4240-A69D-CAF1C0D6A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34D52-6E6A-4719-B31B-2C5ED7FE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01DFF4-1037-4BDE-A9CD-33EE040BE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1AE7D-9E9D-4DA4-A52F-E54702354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D9F3E-44B5-4B3E-8D94-DE682481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FE056-7298-4799-B49C-A37CD135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78A4-47A3-4506-B67C-8E8CCB48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8B7AE7-482A-44FC-B08C-D52AE5D0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9189B-F356-4F12-AFF9-C618DD7A3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DB3C05-56B3-45A3-94CE-7A030A13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E2EB2-87C1-4EC8-A3AA-D11A1738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F0427F-1EBA-4585-A37C-B1FB3DBC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8BA42-0EDF-46A1-9118-48990459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920C2-9847-499E-A6F4-E23D5D68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13615-E22B-466A-993F-2D874540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004E25-9662-4127-9CED-E47DCACA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3A55A-3B58-4A8E-9690-D1E7AD376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00C7-3E56-42B7-8FEA-810F1A1A0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14C36C-6D54-4BA1-A780-3EF716CAB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9DBC2-CD3A-4FCE-83A3-50DB80F1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B30D-80A9-46E0-ABCC-8C6E51F2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2D7C6A-076C-4923-9F55-2A1F43FA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21E38-4233-480C-A913-C8CDD182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DD9BA6-AEDB-48BC-B182-2C89148D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B486D-2819-4898-8736-86A66FA8E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013FB-EF25-4E97-A98C-AD010112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BCC76-1461-4FA9-B644-4494A5D9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F318D-6739-4DF5-BDA2-149ED42FB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25AC-D133-410A-933B-1B983D68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AA6719-72A7-47BF-B49C-50826A16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3E0C5-3B9E-45A9-95F6-0BFD165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1F2FE6-25E6-4CC5-9D58-85D7BBC3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FC13CB-D5A9-42B1-A8EE-A61E8A482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5156A-034E-4D2E-9F14-F25C0AB6C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F473D-F68D-4D6F-A189-DE9790AE1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269071-7A84-44EF-8B38-0ABAD707E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3DF02-31EC-489A-BD00-C2A7193D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3E626-51EA-46D7-8587-BE47234C0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ADDE9-2D0D-4F59-9590-B73CA1457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06F-04BC-4BC7-9B7B-F6153ABF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1B179-EB01-41CF-9E7A-AB968B95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E2F5-9B9D-4131-A179-DD3C386E1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30D90-BE74-42F5-941A-4300F91B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F90C12-6F62-4ADA-8A67-3C0C0385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E4DB66-B57F-4A81-A992-850A826A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40143-A41F-4FA5-BFC0-2BBF5991B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2EEB42-2F13-4442-A676-796BE58B8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7635-D7F2-49E4-96C1-1108670D790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1891B-9D35-4FC8-BF4F-8737025CE8F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7991-6B05-4876-AD5D-FE77A570A1C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8DE3-3352-4A18-9C83-C53BE563FD4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7CEB-8DE9-4917-8C74-E44CCBC4D72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C82D5-5F41-4968-A4D5-FCA8CD3ADD9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4B31F-94DB-471B-ABB8-CD308D7103D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A58A6-E5EE-4B2F-9EEF-5DC41274096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9040" y="1390680"/>
            <a:ext cx="7826400" cy="25290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1 St. Paul Stree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St. Catharines, Ontario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500" spc="-1" strike="noStrike">
                <a:solidFill>
                  <a:srgbClr val="464646"/>
                </a:solidFill>
                <a:latin typeface="Lucida Sans Unicode"/>
              </a:rPr>
              <a:t>905-641-2252, ext 4660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Picture 19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108108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unded by MTCU, Employment Ontario to deliver employment services to the unemploy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9 full service delivery providers across Niagara Reg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Includes 5 main area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lient Service Planning Coordina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Resource and Information Centr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Matching, Placement and Incentiv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Job Retentio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ther Employment program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700" spc="-1" strike="noStrike">
                <a:solidFill>
                  <a:srgbClr val="000000"/>
                </a:solidFill>
                <a:latin typeface="Lucida Sans Unicode"/>
              </a:rPr>
              <a:t>EI status does not determine eligibility for any component of servi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ensures that individuals will have access to the services they need to achieve career and employment go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SPC integrated into all ES components...evolving process...needs do not always reveal themselves at the beginning...emerges throughout the proc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vailable to everyone: employed, unemployed, underemployed, job seekers, students,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the information and resources necessary to support ones job search and human resource nee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s computers, fax machine, phone, information on training, resume writing, job board, etc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352000" cy="15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Targeted for unemployed, out of school and legally entitled to work in Cana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Job Search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39720" indent="-24588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Individual assistance in establishing an occupational goal, development of a service plan with steps required to meet their training/employment goals and conduct their own job search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istance in looking at training options and applying for Second Career fund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272880" indent="-272880">
              <a:lnSpc>
                <a:spcPct val="90000"/>
              </a:lnSpc>
              <a:spcBef>
                <a:spcPts val="400"/>
              </a:spcBef>
              <a:buClr>
                <a:srgbClr val="eb641b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Assessments to determine areas of strength, interests, aptitud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atching unemployed clients with suitable employe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For individuals who may have barriers to employ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Offering financial incentive to employers to help offset costs of train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Providing mentoring and coaching support during and after the plac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22960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3 providers in Niagar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42 week support for those who wish to start their own busines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Must be EI attach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Currently on EI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regular EI claim within last 36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300" spc="-1" strike="noStrike">
                <a:solidFill>
                  <a:srgbClr val="000000"/>
                </a:solidFill>
                <a:latin typeface="Lucida Sans Unicode"/>
              </a:rPr>
              <a:t>On parental/maternity benefits within last 60 month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3" name="Title 2" descr=""/>
          <p:cNvPicPr/>
          <p:nvPr/>
        </p:nvPicPr>
        <p:blipFill>
          <a:blip r:embed="rId1"/>
          <a:stretch/>
        </p:blipFill>
        <p:spPr>
          <a:xfrm>
            <a:off x="457200" y="128520"/>
            <a:ext cx="8321760" cy="16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Lucida Sans Unicode"/>
              </a:rPr>
              <a:t>Call or visit any Employment Ontario service site for further information or assistan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457200" y="77472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6T16:40:23Z</dcterms:created>
  <dc:creator>REFIERIMONTE</dc:creator>
  <dc:description/>
  <dc:language>en-US</dc:language>
  <cp:lastModifiedBy>aholmes</cp:lastModifiedBy>
  <dcterms:modified xsi:type="dcterms:W3CDTF">2011-07-08T18:46:51Z</dcterms:modified>
  <cp:revision>11</cp:revision>
  <dc:subject/>
  <dc:title>Niagara College Employment and Training Solutions</dc:title>
</cp:coreProperties>
</file>